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E310-1862-4420-B75A-871C4F7D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5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BD8-0A61-40B4-82DF-E6983E4A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5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52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AA5-B9D7-4B8A-8EC6-289CAE0C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9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2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5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9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2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0BB-54CB-49E0-AF8F-2B72CDC3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9411-D1E1-4A11-9742-AD693F86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250F-3406-4BC3-8E1B-7AAE9DB5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76E4-8E3C-4676-8F5C-32315D0E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3142-45A8-464C-ACCD-46B04FD0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C1C1-F69D-4CCA-B495-ADD0EB49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944E-CBC2-483A-B180-EF3BAEB9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65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B66B-3319-409D-A9C1-47D2BAEE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E7D-AF05-452A-AC6C-032641AE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52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886D-400F-47A7-883E-9D1A51B1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65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0A6E-1CE1-476C-9962-67E6FF1C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65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6158-DFFA-4338-9206-DA89FB86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5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52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7373-824E-4CFD-AD7C-366A9D56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49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2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65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49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2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E5C8-2459-4C39-A34B-EA8B1ECD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4D20-1665-441A-BA2B-5D8023F4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E9A-375A-439F-9332-DFE00674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C73-0355-48A9-8D93-B5F347F1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F5A-1141-45D2-81C4-1C91F190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5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4CF-191E-48BA-B700-00872658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52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D9B-8277-48DE-A70E-9A249D07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5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C12-606C-46BE-ABA6-7B8B0C76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45DF-D2CC-4B5E-8422-CD095B224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ACDE-0F4B-4F2A-8FC7-886BD8778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la.com.au/" TargetMode="External"/><Relationship Id="rId3" Type="http://schemas.openxmlformats.org/officeDocument/2006/relationships/hyperlink" Target="http://www.qla.com.au/" TargetMode="External"/><Relationship Id="rId4" Type="http://schemas.openxmlformats.org/officeDocument/2006/relationships/hyperlink" Target="http://www.qla.com.au/" TargetMode="Externa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Lauren%20-%20French%20exam%20-%20The%20Catherine%20Tate%20Show%20-%20BBC%20comedy.mp4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ch&#233;%20!La%20France%20vue%20de%20l&#233;tranger.mp4" TargetMode="External"/><Relationship Id="rId3" Type="http://schemas.openxmlformats.org/officeDocument/2006/relationships/hyperlink" Target="file:///L&apos;art%20de%20la%20bise.mp4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artian%20Family%20Portfolio%20Piece%202.doc" TargetMode="External"/><Relationship Id="rId3" Type="http://schemas.openxmlformats.org/officeDocument/2006/relationships/hyperlink" Target="file:///Term%201%20Carte%20Postale%20assignment%20task%20sheet.doc" TargetMode="External"/><Relationship Id="rId4" Type="http://schemas.openxmlformats.org/officeDocument/2006/relationships/hyperlink" Target="file:///Year%208%20French%20Storybook%20Assignment.doc" TargetMode="Externa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la.com.au/" TargetMode="External"/><Relationship Id="rId3" Type="http://schemas.openxmlformats.org/officeDocument/2006/relationships/hyperlink" Target="http://www.qla.com.au/" TargetMode="External"/><Relationship Id="rId4" Type="http://schemas.openxmlformats.org/officeDocument/2006/relationships/hyperlink" Target="http://www.qla.com.au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1825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Formative and Summative Assessment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810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 Primary French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to begin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42560" y="1196640"/>
            <a:ext cx="8101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did we learn last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it with a partner. You have 30 seconds to tell them one thing you remember from last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Now swap! You have to tell your next partner the one thing you remembered plus the thing the other person told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And so 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In 3 minutes, your students should have revised many things from the last less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to begin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did we learn last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tand with a partner. Each takes a turn saying one thing they remember that happened last lesson. Once a person runs out of things, they sit down. The other partner moves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e winners verse each other, until you get to one student who remembered the mo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should tell you a lot visually in a matter of minutes about who is keeping up in clas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to begin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02920" y="119664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did we learn last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tudents write down 3 things they remember from last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eacher writes up 3-5 things he/she taught last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eacher asks class for each thing listed a show of hands about who had it written down, and makes a 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You should be able to quickly see what your students learnt well, and what has not yet sunk 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Formative assessment during the les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during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are we learning this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Give a set of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Ask the students to hold up one hand showing a finger rating from 1-3 indicating how much they understood about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Or, create a traffic light system where each student has a red, orange and green card. They show the colour which best reflects their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during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Do we have the time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Indicate on the fingers of one hand how many more minutes you need to complete thi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during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risten ITC"/>
              </a:rPr>
              <a:t>Let’s have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Games are an ideal way to formatively assess you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You can learn a lot about their level of progress with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Kristen ITC"/>
              </a:rPr>
              <a:t>M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Kristen ITC"/>
              </a:rPr>
              <a:t>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Kristen ITC"/>
              </a:rPr>
              <a:t>One Step/ Pac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Kristen ITC"/>
              </a:rPr>
              <a:t>Simon 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Kristen ITC"/>
              </a:rPr>
              <a:t>Dog and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Kristen ITC"/>
              </a:rPr>
              <a:t>Ship to 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Kristen ITC"/>
              </a:rPr>
              <a:t>Survey r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Formative assessment to end the les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to end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did we learn this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ld up one hand showing a finger rating from 1-3 indicating how much you understood about what we did this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Give yourself a rating out of 10 for how well you understood what we learnt this lesson, now make a line from highest number to lo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to end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did we learn this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On the board, have a 5 scale rating (e.g. different animals, numbers, letters…) and before students leave the room, they put their name/icon somewhere on the 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should show you consistently who needs help, and who is doing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Kristen ITC"/>
              </a:rPr>
              <a:t>Our experience is different from that of a high school teach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692360" y="378936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risten ITC"/>
              </a:rPr>
              <a:t>Sometimes, this is a fortunate thing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to end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did we learn this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Before you let students leave the room, have them line up at the classroom door and as they leave, tell yo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one thing they learnt tha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 French word we use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 pet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 particula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or whatever they have been lear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Formative assessment beyond the les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beyond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are you learning in Fren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Ask your students to do one piece of homework after every lesson: teach someone three things they lear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Ask your students to bring in evidence that they have used French outside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Run a photography competition where the students take a photo of themselves with something ‘French’ they see in their daily lif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beyond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are you learning in Fren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Get your students’ classroom teacher on board- how many new things can they teach him/her each week? Get them to keep a tally in the classroo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Other types of formative assess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xercise book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ompletion of class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Student self-assess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risten ITC"/>
              </a:rPr>
              <a:t>David Langford’s Tool Time For Edu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5b6b00"/>
                </a:solidFill>
                <a:uFillTx/>
                <a:latin typeface="Kristen ITC"/>
                <a:hlinkClick r:id="rId2"/>
              </a:rPr>
              <a:t>http://</a:t>
            </a:r>
            <a:r>
              <a:rPr b="0" lang="en-AU" sz="2800" spc="-1" strike="noStrike" u="sng">
                <a:solidFill>
                  <a:srgbClr val="5b6b00"/>
                </a:solidFill>
                <a:uFillTx/>
                <a:latin typeface="Kristen ITC"/>
                <a:hlinkClick r:id="rId3"/>
              </a:rPr>
              <a:t>www.qla.com.au</a:t>
            </a:r>
            <a:r>
              <a:rPr b="0" lang="en-AU" sz="2800" spc="-1" strike="noStrike" u="sng">
                <a:solidFill>
                  <a:srgbClr val="5b6b00"/>
                </a:solidFill>
                <a:uFillTx/>
                <a:latin typeface="Kristen ITC"/>
                <a:hlinkClick r:id="rId4"/>
              </a:rPr>
              <a:t>/</a:t>
            </a: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Capacity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Summative assess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udents should be assess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List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p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Summative assess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47640" y="1600200"/>
            <a:ext cx="744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risten ITC"/>
              </a:rPr>
              <a:t>Types of assess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Assignments (take home/ in-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Speaking tasks (role plays, intervi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Quiz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Class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In-clas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Summative assess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6920" y="1600200"/>
            <a:ext cx="780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riteria, marking grids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Do your students know how their grade is gene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Do your students know what you are looking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w can your students clarify their ta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w do they know if they have done a good jo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Intercultural Understa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The Catherine Tate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03280" y="907560"/>
            <a:ext cx="73152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5b6b00"/>
                </a:solidFill>
                <a:uFillTx/>
                <a:latin typeface="Kristen ITC"/>
                <a:hlinkClick r:id="rId2"/>
              </a:rPr>
              <a:t>A French Speaking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ELA15: The student communicates with intercultural understa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How can we approach the intercultural in c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1052640"/>
            <a:ext cx="73152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How can we approach the intercultural in class?</a:t>
            </a:r>
            <a:br>
              <a:rPr sz="4000"/>
            </a:br>
            <a:br>
              <a:rPr sz="4000"/>
            </a:br>
            <a:r>
              <a:rPr b="0" lang="en-US" sz="3000" spc="-1" strike="noStrike" u="sng">
                <a:solidFill>
                  <a:srgbClr val="5b6b00"/>
                </a:solidFill>
                <a:uFillTx/>
                <a:latin typeface="Kristen ITC"/>
                <a:hlinkClick r:id="rId2"/>
              </a:rPr>
              <a:t>Looking at stereotypes</a:t>
            </a:r>
            <a:br>
              <a:rPr sz="3000"/>
            </a:br>
            <a:br>
              <a:rPr sz="3000"/>
            </a:br>
            <a:r>
              <a:rPr b="0" lang="en-US" sz="3000" spc="-1" strike="noStrike" u="sng">
                <a:solidFill>
                  <a:srgbClr val="5b6b00"/>
                </a:solidFill>
                <a:uFillTx/>
                <a:latin typeface="Kristen ITC"/>
                <a:hlinkClick r:id="rId3"/>
              </a:rPr>
              <a:t>Cultural practices seen from outside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1640" y="27432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Intercultural Understand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7280" y="1341360"/>
            <a:ext cx="79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e all have a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at is your cultural backg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w is your family culture different from your best friend’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ave you ever felt uncomfortable with another family’s culture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ultural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at is important to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o else values what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en and why did you start to value those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1640" y="27432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Intercultural Understand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87280" y="160020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omparing and contr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at is famili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at is fore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Developing empa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w would you feel if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w would you respond in a satiation? How might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Different, but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at makes you think our way is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1640" y="27432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Intercultural Understand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87280" y="160020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6b00"/>
                </a:solidFill>
                <a:uFillTx/>
                <a:latin typeface="Kristen ITC"/>
                <a:hlinkClick r:id="rId2"/>
              </a:rPr>
              <a:t>Year 5 Martian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6b00"/>
                </a:solidFill>
                <a:uFillTx/>
                <a:latin typeface="Kristen ITC"/>
                <a:hlinkClick r:id="rId3"/>
              </a:rPr>
              <a:t>Year 7 Post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6b00"/>
                </a:solidFill>
                <a:uFillTx/>
                <a:latin typeface="Kristen ITC"/>
                <a:hlinkClick r:id="rId4"/>
              </a:rPr>
              <a:t>Year 8 Story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1640" y="27432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Intercultural Understand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87280" y="160020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have you come up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Merci tout le mon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Kristen ITC"/>
              </a:rPr>
              <a:t>Our experience is different from that of a high school teach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692360" y="378936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risten ITC"/>
              </a:rPr>
              <a:t>But this can make our job much more difficult too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A few of our challenges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15640" y="1125360"/>
            <a:ext cx="7875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Raise your hand i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risten ITC"/>
              </a:rPr>
              <a:t>You teach multiple year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risten ITC"/>
              </a:rPr>
              <a:t>You see each class for less than 90 minutes per we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risten ITC"/>
              </a:rPr>
              <a:t>You work with more than one time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risten ITC"/>
              </a:rPr>
              <a:t>You teach over 150 students per we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risten ITC"/>
              </a:rPr>
              <a:t>You are unlikely to have 10 lessons per term with your classes (after sports carnivals, NAPLAN, excursion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risten ITC"/>
              </a:rPr>
              <a:t>You also teach high school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risten ITC"/>
              </a:rPr>
              <a:t>You work at more than one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risten ITC"/>
              </a:rPr>
              <a:t>You assess and report on all your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So how do we.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47640" y="1600200"/>
            <a:ext cx="744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Get to know our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ake effective use of our limited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ngage our students in formative assess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Undertake summative assess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Formative assess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47640" y="1052280"/>
            <a:ext cx="7444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risten ITC"/>
              </a:rPr>
              <a:t>Cowie and Bell define formative assessment as "the process used by teachers and students to recognise and respond to student learning in order to enhance that learning, during the learn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risten ITC"/>
              </a:rPr>
              <a:t>To inform your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risten ITC"/>
              </a:rPr>
              <a:t>Focuses on qualitative feedback on knowledge and skills rather than quantit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Student self-assess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risten ITC"/>
              </a:rPr>
              <a:t>David Langford’s Tool Time For Edu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5b6b00"/>
                </a:solidFill>
                <a:uFillTx/>
                <a:latin typeface="Kristen ITC"/>
                <a:hlinkClick r:id="rId2"/>
              </a:rPr>
              <a:t>http://</a:t>
            </a:r>
            <a:r>
              <a:rPr b="0" lang="en-AU" sz="2800" spc="-1" strike="noStrike" u="sng">
                <a:solidFill>
                  <a:srgbClr val="5b6b00"/>
                </a:solidFill>
                <a:uFillTx/>
                <a:latin typeface="Kristen ITC"/>
                <a:hlinkClick r:id="rId3"/>
              </a:rPr>
              <a:t>www.qla.com.au</a:t>
            </a:r>
            <a:r>
              <a:rPr b="0" lang="en-AU" sz="2800" spc="-1" strike="noStrike" u="sng">
                <a:solidFill>
                  <a:srgbClr val="5b6b00"/>
                </a:solidFill>
                <a:uFillTx/>
                <a:latin typeface="Kristen ITC"/>
                <a:hlinkClick r:id="rId4"/>
              </a:rPr>
              <a:t>/</a:t>
            </a: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Formative assessment to begin the les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5:07:37Z</dcterms:created>
  <dc:creator>DanielLambert</dc:creator>
  <dc:description/>
  <dc:language>en-US</dc:language>
  <cp:lastModifiedBy>ctl_16</cp:lastModifiedBy>
  <dcterms:modified xsi:type="dcterms:W3CDTF">2011-09-24T00:51:04Z</dcterms:modified>
  <cp:revision>43</cp:revision>
  <dc:subject/>
  <dc:title>Formative and Summative Assessment Practices</dc:title>
</cp:coreProperties>
</file>